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C0B5-7B46-4365-A63B-8871859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84BC-0A68-48C7-81D4-6CA5F309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C8DE-B1C2-4D60-9F2B-A3714381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FADD-5BE6-409C-810C-D2997D99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BADA-474D-443B-B1A5-4D46797A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4121-8279-4EBA-A9FE-8DDC02A2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649D-4A41-4807-ACAE-E9CEAE2A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FD48-7663-4ADA-93AF-852FFE54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65D3-32C8-4F06-8EDB-111F5D0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2650-2A8F-42FC-8F33-331CEA1E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ADE3-E90C-4DE2-91CC-E70BA0D2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62D0-4D46-415C-9CC0-09364165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64B5-554F-45CC-878F-73D41C5A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3E0F-9AF9-4447-9A62-FBD7FD53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ACB7-EB39-44AB-B927-285873A0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DB7-0EFD-4561-A994-5D6579FA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5DC6-8C0F-4A0B-B545-8308C96A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9192-5CC9-48A5-900B-4DB6820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326D-924F-4AD6-A34A-79319800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AC42-DADF-46FB-AA2F-3D61D08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397F-C2F3-4EEB-8E3B-C5D191E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0564-5E4D-4508-A52C-392BFE18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6DD6-ABC1-4C77-B55D-118E426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A34B-0AD4-4ECB-978D-BBD82C6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9720-E7D5-40DC-B86B-5405481C50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0B59-0834-4396-9D37-339239228C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307440"/>
            <a:ext cx="878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ема I. Предприятие торговл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к субъект рыночной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ция 1. Предприятие торговли в современных условиях хозяйств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 час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вед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приятие как основной субъект рынка и системный объект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то торгового предприя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эконом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рмативные акты регламентирующие деятельность торгового предприя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40560" y="61578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63025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П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8920" y="428040"/>
            <a:ext cx="894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 2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сто торгового предприятия в националььной эконом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численности и структуры предприятий по отраслям экономи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1874880"/>
          <a:ext cx="8785440" cy="3575160"/>
        </p:xfrm>
        <a:graphic>
          <a:graphicData uri="http://schemas.openxmlformats.org/drawingml/2006/table">
            <a:tbl>
              <a:tblPr/>
              <a:tblGrid>
                <a:gridCol w="1846440"/>
                <a:gridCol w="579240"/>
                <a:gridCol w="576360"/>
                <a:gridCol w="579600"/>
                <a:gridCol w="577800"/>
                <a:gridCol w="577800"/>
                <a:gridCol w="579240"/>
                <a:gridCol w="578160"/>
                <a:gridCol w="577800"/>
                <a:gridCol w="577800"/>
                <a:gridCol w="579240"/>
                <a:gridCol w="576360"/>
                <a:gridCol w="57960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и эконом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ы ро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орговля и общественное 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мышл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ельское хозяй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оитель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7451280" y="638172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395280" y="-27000"/>
          <a:ext cx="84247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-27000"/>
                    <a:ext cx="8424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02280" y="4075920"/>
            <a:ext cx="728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ис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ля предприятий отдельных отраслей в общей численности действующих в экономике,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638172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Р-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120" y="4582440"/>
            <a:ext cx="4015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ы роста (базисные) -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)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собенност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60440" y="5235480"/>
                <a:ext cx="702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160440" y="5515200"/>
            <a:ext cx="415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причин, их обусловивши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0920" y="439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ные социально-экономические показа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, 200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052640"/>
          <a:ext cx="8785440" cy="4055760"/>
        </p:xfrm>
        <a:graphic>
          <a:graphicData uri="http://schemas.openxmlformats.org/drawingml/2006/table">
            <a:tbl>
              <a:tblPr/>
              <a:tblGrid>
                <a:gridCol w="792360"/>
                <a:gridCol w="506160"/>
                <a:gridCol w="428760"/>
                <a:gridCol w="289080"/>
                <a:gridCol w="519120"/>
                <a:gridCol w="415800"/>
                <a:gridCol w="289080"/>
                <a:gridCol w="431640"/>
                <a:gridCol w="360360"/>
                <a:gridCol w="216000"/>
                <a:gridCol w="393840"/>
                <a:gridCol w="401400"/>
                <a:gridCol w="230400"/>
                <a:gridCol w="593640"/>
                <a:gridCol w="363600"/>
                <a:gridCol w="252360"/>
                <a:gridCol w="558720"/>
                <a:gridCol w="378000"/>
                <a:gridCol w="216000"/>
                <a:gridCol w="581040"/>
                <a:gridCol w="355680"/>
                <a:gridCol w="216000"/>
              </a:tblGrid>
              <a:tr h="583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км</a:t>
                      </a:r>
                      <a:r>
                        <a:rPr b="1" i="1" lang="en-US" sz="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занятых в экономик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е доходы в месяц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ой региональный продук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мышленной продук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 розничной торговл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.</a:t>
                      </a:r>
                      <a:r>
                        <a:rPr b="1" i="1" lang="en-US" sz="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чел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75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474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407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3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82339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6256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9770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45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20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77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9612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0299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2416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Западны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7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3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13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76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3814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498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974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9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20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97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65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312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017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8685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ск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8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10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86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4016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0175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0792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8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79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6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76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715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5026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826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4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94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65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6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6185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302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3429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5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9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6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36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1204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524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5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481680" y="5268600"/>
            <a:ext cx="817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Задание для самостоятельной работы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вяжите приведенные показатели с качеством предприятий, функционирующих в экономике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ыделите основные факторы, определяющие численность предприятий по округам: в целом по экономике и по отрасли «Торговл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51640" y="63817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0600" y="5452200"/>
            <a:ext cx="432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Задание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Опишите и прокомментируйте полученные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228600" y="933480"/>
            <a:ext cx="504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933480"/>
            <a:ext cx="1517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228600" y="933480"/>
            <a:ext cx="1517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228600" y="93348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15520" y="4319640"/>
            <a:ext cx="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228600" y="933480"/>
            <a:ext cx="504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228600" y="933480"/>
            <a:ext cx="1517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228600" y="933480"/>
            <a:ext cx="1517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228600" y="933480"/>
            <a:ext cx="151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15520" y="4319640"/>
            <a:ext cx="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79280" y="789120"/>
          <a:ext cx="8785440" cy="4584600"/>
        </p:xfrm>
        <a:graphic>
          <a:graphicData uri="http://schemas.openxmlformats.org/drawingml/2006/table">
            <a:tbl>
              <a:tblPr/>
              <a:tblGrid>
                <a:gridCol w="1201680"/>
                <a:gridCol w="812880"/>
                <a:gridCol w="901800"/>
                <a:gridCol w="971640"/>
                <a:gridCol w="720720"/>
                <a:gridCol w="600120"/>
                <a:gridCol w="626760"/>
                <a:gridCol w="692280"/>
                <a:gridCol w="695520"/>
                <a:gridCol w="693720"/>
                <a:gridCol w="868320"/>
              </a:tblGrid>
              <a:tr h="461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ее основнных социально-экономически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ей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корреляции рангов Спирмэна – (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а розничной торгов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 розничной торговли - 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я, занятого в экономи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х доход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занятых в экономи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</a:t>
                      </a:r>
                      <a:r>
                        <a:rPr b="1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Запад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25640" y="4681440"/>
                <a:ext cx="1133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859280" y="5014800"/>
                <a:ext cx="1081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84720" y="5006880"/>
                <a:ext cx="1224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96360" y="4970520"/>
                <a:ext cx="1295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7451640" y="6381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2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19560" y="417600"/>
            <a:ext cx="10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блица 2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11280" y="331920"/>
            <a:ext cx="812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Характеристика предприятий и организаций по федеральным округам 2004 г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целом по экономике и по отрасли «Торговля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282600" y="170640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50920" y="3789360"/>
                <a:ext cx="181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279" name=""/>
          <p:cNvGraphicFramePr/>
          <p:nvPr/>
        </p:nvGraphicFramePr>
        <p:xfrm>
          <a:off x="179280" y="1052640"/>
          <a:ext cx="8817120" cy="3014640"/>
        </p:xfrm>
        <a:graphic>
          <a:graphicData uri="http://schemas.openxmlformats.org/drawingml/2006/table">
            <a:tbl>
              <a:tblPr/>
              <a:tblGrid>
                <a:gridCol w="2455920"/>
                <a:gridCol w="936720"/>
                <a:gridCol w="620640"/>
                <a:gridCol w="615960"/>
                <a:gridCol w="987480"/>
                <a:gridCol w="504720"/>
                <a:gridCol w="622440"/>
                <a:gridCol w="2073240"/>
              </a:tblGrid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 экономи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торговля и общественное пит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торговых предприятий в общей численности в эконом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7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1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7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1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7   </a:t>
                      </a: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Западн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   </a:t>
                      </a: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5   </a:t>
                      </a: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   </a:t>
                      </a: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   </a:t>
                      </a: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   </a:t>
                      </a: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   </a:t>
                      </a:r>
                      <a:r>
                        <a:rPr b="0" lang="en-US" sz="10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34920" y="4076640"/>
            <a:ext cx="9121680" cy="1657440"/>
            <a:chOff x="34920" y="4076640"/>
            <a:chExt cx="9121680" cy="1657440"/>
          </a:xfrm>
        </p:grpSpPr>
        <p:sp>
          <p:nvSpPr>
            <p:cNvPr id="281" name=""/>
            <p:cNvSpPr/>
            <p:nvPr/>
          </p:nvSpPr>
          <p:spPr>
            <a:xfrm>
              <a:off x="34920" y="4490640"/>
              <a:ext cx="112860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оссия 36,7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89960" y="4974480"/>
              <a:ext cx="146664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альневосточны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91640" y="4490640"/>
              <a:ext cx="112860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оссия 36,7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49720" y="4863600"/>
              <a:ext cx="1128600" cy="870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4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0720" y="4094640"/>
              <a:ext cx="112860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Центральны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21120" y="4076640"/>
              <a:ext cx="1128600" cy="43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о-Западны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49720" y="4537440"/>
              <a:ext cx="112860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ибирски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78320" y="4755240"/>
              <a:ext cx="112860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ральски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06920" y="4863600"/>
              <a:ext cx="113040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37320" y="4972680"/>
              <a:ext cx="112896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иволжски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21120" y="4428000"/>
              <a:ext cx="1128600" cy="1305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0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78320" y="4972680"/>
              <a:ext cx="1128600" cy="761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3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06920" y="5081040"/>
              <a:ext cx="1130400" cy="652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0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37320" y="5190480"/>
              <a:ext cx="1128960" cy="543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9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66280" y="5190480"/>
              <a:ext cx="1128600" cy="543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9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90720" y="4320000"/>
              <a:ext cx="1130400" cy="1413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1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0240" y="4755240"/>
              <a:ext cx="858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11600" y="5674680"/>
            <a:ext cx="790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5. Распределение предприятий торговли доли в общей численности занятых в экономике по федеральным округам, % 20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920" y="5957280"/>
            <a:ext cx="849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Задание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писать особенности распределения предприятий по федеральным округ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Сформулировать основные причины, обеспечивающие специфику представительства торговых предприяти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96600" y="651816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3., Р.-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885080" y="225720"/>
            <a:ext cx="102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68360" y="692280"/>
                <a:ext cx="1810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609480" y="67536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310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560" y="1844640"/>
            <a:ext cx="194652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1560" y="1844640"/>
            <a:ext cx="181944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907920"/>
          <a:ext cx="6737400" cy="2944800"/>
        </p:xfrm>
        <a:graphic>
          <a:graphicData uri="http://schemas.openxmlformats.org/drawingml/2006/table">
            <a:tbl>
              <a:tblPr/>
              <a:tblGrid>
                <a:gridCol w="2971800"/>
                <a:gridCol w="1946160"/>
                <a:gridCol w="181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6,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Запад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3,4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4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5,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8,5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54,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770520" y="1052640"/>
                <a:ext cx="6098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987800" y="1068480"/>
                <a:ext cx="4478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53960" y="4005360"/>
                <a:ext cx="3181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787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69</m:t>
                            </m:r>
                            <m:r>
                              <m:t xml:space="preserve">,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49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89520" y="4005360"/>
                <a:ext cx="2238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49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101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3089520" y="458028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в=100-86;  Крав = 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200" y="5292720"/>
            <a:ext cx="7465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я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читать показатели вариации для предприятий торговли и общественного питан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комментировать приведенные и полученные результа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6381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3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14320" y="232200"/>
            <a:ext cx="8150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Характеристика предприятий и организаций Сибирского федерального округ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целом по экономике и по отрасли торговля, 2004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79280" y="1197000"/>
          <a:ext cx="8893440" cy="4708440"/>
        </p:xfrm>
        <a:graphic>
          <a:graphicData uri="http://schemas.openxmlformats.org/drawingml/2006/table">
            <a:tbl>
              <a:tblPr/>
              <a:tblGrid>
                <a:gridCol w="1935360"/>
                <a:gridCol w="1228680"/>
                <a:gridCol w="914400"/>
                <a:gridCol w="730080"/>
                <a:gridCol w="938160"/>
                <a:gridCol w="611280"/>
                <a:gridCol w="647640"/>
                <a:gridCol w="809640"/>
                <a:gridCol w="1078200"/>
              </a:tblGrid>
              <a:tr h="64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 экономик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торговля и общественное 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торговых предприятий в общей числ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окру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9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ур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Хака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8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и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23040" y="5949360"/>
            <a:ext cx="846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Задание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ллюстрируйте графически особенности территориального распределения предприятий и организаций округ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в целом по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) по отрасли «Торговля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51640" y="63817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9280" y="4032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сновные социально-экономические показате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ибирского федерального округа, 2004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1219320"/>
          <a:ext cx="9109080" cy="4111560"/>
        </p:xfrm>
        <a:graphic>
          <a:graphicData uri="http://schemas.openxmlformats.org/drawingml/2006/table">
            <a:tbl>
              <a:tblPr/>
              <a:tblGrid>
                <a:gridCol w="936720"/>
                <a:gridCol w="511200"/>
                <a:gridCol w="350640"/>
                <a:gridCol w="301680"/>
                <a:gridCol w="506520"/>
                <a:gridCol w="353880"/>
                <a:gridCol w="316080"/>
                <a:gridCol w="438120"/>
                <a:gridCol w="350640"/>
                <a:gridCol w="303480"/>
                <a:gridCol w="407880"/>
                <a:gridCol w="353880"/>
                <a:gridCol w="303120"/>
                <a:gridCol w="606600"/>
                <a:gridCol w="351000"/>
                <a:gridCol w="301320"/>
                <a:gridCol w="555840"/>
                <a:gridCol w="350640"/>
                <a:gridCol w="301680"/>
                <a:gridCol w="555840"/>
                <a:gridCol w="350640"/>
                <a:gridCol w="3016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е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к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занятых в экономик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душевые доходы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ой региональный продук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мышленной продук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 розничной торговл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4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94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65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6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6185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302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3429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9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66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2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2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ят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9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1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57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19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45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1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77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7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7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касс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0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29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4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7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5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5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185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79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261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ий кра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9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5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2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7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542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107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79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а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5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2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18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18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796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55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5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9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61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383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09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584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аст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2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5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68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17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168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234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ая област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6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8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7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697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376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508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ая област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6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2,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25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70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714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инска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5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9,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584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7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43,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-67680" y="5342760"/>
            <a:ext cx="816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Задания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Заполните раздел «Оборот розничной торговл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комментируйте влияние основных показателей на территориальное распределение предприятий окру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51640" y="63817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49536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инамика численности и структура малых предприят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 отраслям эконо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79280" y="1413000"/>
          <a:ext cx="8785440" cy="3095640"/>
        </p:xfrm>
        <a:graphic>
          <a:graphicData uri="http://schemas.openxmlformats.org/drawingml/2006/table">
            <a:tbl>
              <a:tblPr/>
              <a:tblGrid>
                <a:gridCol w="1516320"/>
                <a:gridCol w="706320"/>
                <a:gridCol w="604800"/>
                <a:gridCol w="611280"/>
                <a:gridCol w="538200"/>
                <a:gridCol w="631800"/>
                <a:gridCol w="647640"/>
                <a:gridCol w="549360"/>
                <a:gridCol w="687240"/>
                <a:gridCol w="649440"/>
                <a:gridCol w="649080"/>
                <a:gridCol w="638280"/>
                <a:gridCol w="35568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орговля и общеп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мышл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ельск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7451640" y="6381720"/>
            <a:ext cx="15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176720" cy="2608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500720" cy="2664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85560" y="5444280"/>
            <a:ext cx="64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ис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Особенности отраслевого распределения малых предприятий, % 2000-200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93800" y="6165720"/>
                <a:ext cx="1257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Т</m:t>
                        </m:r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85880" y="587700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7880" y="6021360"/>
            <a:ext cx="2400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вы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01680" y="5735880"/>
            <a:ext cx="30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3960" y="5858280"/>
            <a:ext cx="22262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ы роста (базисны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8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51640" y="6381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Р.-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779560"/>
            <a:ext cx="4680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000" y="378000"/>
            <a:ext cx="89280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кция 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шков Л. П., Памбухчиянц В. К., Пахбумчиянц О. В.  Справочник руководи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ргового предприятия. М.: «Дашков и Ко», 2003. С. 131-133, 101-1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омедов А. М. Экономика предприятия. М: «Экзамен», 2004. С. 7-3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Т РФ «Розничная торговля. Классификация предприятий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ПК Издательство стандартов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 торговли. Сборник нормативных локументов, регламентирую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ь предприятий потребительского рынка и услуг г. Краснояр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оярск, Юриздат. Красноярск 2005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ка торгового предприятия. Под ред. Благина, М.: Инфра, 2004 – С. 110-13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ка торгового предприятия ч. I. Красноярск. Изд-во КГУ, 2002. С. 23-3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рговля  в России. Стат.сборник. 2005. М.: Росстат 2006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12720" y="63025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0920" y="3625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Характеристика малых предприятий, по федеральным округам 2004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840" y="1539720"/>
            <a:ext cx="155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719280" y="4381560"/>
                <a:ext cx="1807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341" name=""/>
          <p:cNvGraphicFramePr/>
          <p:nvPr/>
        </p:nvGraphicFramePr>
        <p:xfrm>
          <a:off x="108000" y="1052640"/>
          <a:ext cx="8869320" cy="3565440"/>
        </p:xfrm>
        <a:graphic>
          <a:graphicData uri="http://schemas.openxmlformats.org/drawingml/2006/table">
            <a:tbl>
              <a:tblPr/>
              <a:tblGrid>
                <a:gridCol w="1554120"/>
                <a:gridCol w="1011240"/>
                <a:gridCol w="817560"/>
                <a:gridCol w="914400"/>
                <a:gridCol w="1005120"/>
                <a:gridCol w="823680"/>
                <a:gridCol w="914400"/>
                <a:gridCol w="914400"/>
                <a:gridCol w="914400"/>
              </a:tblGrid>
              <a:tr h="64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 эконом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торговля и общественное и 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торговли в общей численности малых пред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тыс.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тыс.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о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24354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 rot="13533600">
            <a:off x="1569600" y="510696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0960" y="4705560"/>
            <a:ext cx="30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4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6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7040" y="5021280"/>
                <a:ext cx="1219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Х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51840" y="5087880"/>
            <a:ext cx="617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собенност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причин их обуславлива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89000" y="562284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253880" y="573300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69880" y="506772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51640" y="6381720"/>
            <a:ext cx="15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95280" y="258840"/>
            <a:ext cx="84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асчет показателей вари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числа малых предприятий по федеральным округ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40160" y="1252440"/>
            <a:ext cx="33300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393920" y="1252440"/>
                <a:ext cx="18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616400" y="1252440"/>
            <a:ext cx="38340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393920" y="1252440"/>
                <a:ext cx="18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641600" y="1252440"/>
            <a:ext cx="33300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93920" y="1252440"/>
                <a:ext cx="18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1616400" y="1252440"/>
            <a:ext cx="38340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393920" y="1252440"/>
                <a:ext cx="18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393920" y="125244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393920" y="1252440"/>
                <a:ext cx="1141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393920" y="125244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393920" y="1252440"/>
                <a:ext cx="18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366" name=""/>
          <p:cNvGraphicFramePr/>
          <p:nvPr/>
        </p:nvGraphicFramePr>
        <p:xfrm>
          <a:off x="395280" y="973080"/>
          <a:ext cx="8353440" cy="3535560"/>
        </p:xfrm>
        <a:graphic>
          <a:graphicData uri="http://schemas.openxmlformats.org/drawingml/2006/table">
            <a:tbl>
              <a:tblPr/>
              <a:tblGrid>
                <a:gridCol w="1816200"/>
                <a:gridCol w="1095120"/>
                <a:gridCol w="1086120"/>
                <a:gridCol w="1089000"/>
                <a:gridCol w="1089000"/>
                <a:gridCol w="1089000"/>
                <a:gridCol w="1089000"/>
              </a:tblGrid>
              <a:tr h="517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 эконом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рговл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ом пит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-   )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Х -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4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о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32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0" y="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42920" y="4724280"/>
                <a:ext cx="1549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17000" y="97380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801800" y="4724280"/>
                <a:ext cx="1257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Х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117000" y="182124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298680" y="4724280"/>
                <a:ext cx="1057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26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39640" y="5229360"/>
                <a:ext cx="298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322</m:t>
                            </m:r>
                            <m:r>
                              <m:t xml:space="preserve">,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903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39640" y="5710320"/>
                <a:ext cx="2238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6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390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932360" y="4726080"/>
                <a:ext cx="29811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630760" y="5084640"/>
                <a:ext cx="2181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954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36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0" y="471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919760" y="5589720"/>
                <a:ext cx="1523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573800" y="541224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539040" y="5661000"/>
                <a:ext cx="1562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2228760" y="6164640"/>
            <a:ext cx="371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комментируйте полученные результ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01400" y="515772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р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4724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51640" y="6381720"/>
            <a:ext cx="15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851280" y="1500120"/>
                <a:ext cx="181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859280" y="1500120"/>
                <a:ext cx="181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270920" y="1500120"/>
                <a:ext cx="18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207280" y="1500120"/>
                <a:ext cx="181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Х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9280" y="3207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Характеристика малых предприят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ибирского федерального округа, 2004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2280" y="1090440"/>
          <a:ext cx="8840880" cy="4498920"/>
        </p:xfrm>
        <a:graphic>
          <a:graphicData uri="http://schemas.openxmlformats.org/drawingml/2006/table">
            <a:tbl>
              <a:tblPr/>
              <a:tblGrid>
                <a:gridCol w="2208240"/>
                <a:gridCol w="917640"/>
                <a:gridCol w="914400"/>
                <a:gridCol w="685800"/>
                <a:gridCol w="914400"/>
                <a:gridCol w="914400"/>
                <a:gridCol w="685800"/>
                <a:gridCol w="914400"/>
                <a:gridCol w="685800"/>
              </a:tblGrid>
              <a:tr h="64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ы окр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 эконом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торгов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торговых предприятий в общем их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руг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ур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Хака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и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165240" y="5646960"/>
            <a:ext cx="71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Сделайте графическую иллюстрацию информации, содержащейся в таблице 8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63817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8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50920" y="42408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малых предприятий промышленност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троительства, торговли и общественного пит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000" y="1224000"/>
          <a:ext cx="8856720" cy="3051000"/>
        </p:xfrm>
        <a:graphic>
          <a:graphicData uri="http://schemas.openxmlformats.org/drawingml/2006/table">
            <a:tbl>
              <a:tblPr/>
              <a:tblGrid>
                <a:gridCol w="1371600"/>
                <a:gridCol w="915840"/>
                <a:gridCol w="831960"/>
                <a:gridCol w="746280"/>
                <a:gridCol w="915840"/>
                <a:gridCol w="830160"/>
                <a:gridCol w="744480"/>
                <a:gridCol w="914400"/>
                <a:gridCol w="831960"/>
                <a:gridCol w="754200"/>
              </a:tblGrid>
              <a:tr h="48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е округ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количество работников предприятия,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дукции на одно предприятие, тыс.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дукции на одного работника, тыс.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сть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 и общественное питание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сть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 и общественное питание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сть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 и общественное питание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о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179280" y="4559400"/>
            <a:ext cx="88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я для самостоятельной рабо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ите анализ особенностей результативных показателей по отраслям экономики и округам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читайте показатели вариации приведенных показател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тройте графические иллюстра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51640" y="63817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2. Т.-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97200" y="37332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467000" y="884160"/>
            <a:ext cx="6417720" cy="5353200"/>
            <a:chOff x="1467000" y="884160"/>
            <a:chExt cx="6417720" cy="5353200"/>
          </a:xfrm>
        </p:grpSpPr>
        <p:sp>
          <p:nvSpPr>
            <p:cNvPr id="113" name=""/>
            <p:cNvSpPr/>
            <p:nvPr/>
          </p:nvSpPr>
          <p:spPr>
            <a:xfrm>
              <a:off x="1932120" y="3116520"/>
              <a:ext cx="537156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и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                      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18320" y="3741840"/>
              <a:ext cx="20570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Формирование у студентов современного экономического мышлени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7000" y="884160"/>
              <a:ext cx="6057720" cy="1828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Цель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системы теоретических и практических знаний в области анализа и организации эффективной деятельности предприятий торговл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3720" y="4427640"/>
              <a:ext cx="3671640" cy="776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Приобретение практических навыков расчета основных показателей деятельности предприятия торговли в современных условиях; определения эффективности деятельности предприятий торговли (экономической и социальной) в современных условиях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89240" y="5251680"/>
              <a:ext cx="468612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Овладение методикой и технологией осуществления экономического анализа деятельности предприятий торговли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7000" y="5780160"/>
              <a:ext cx="605772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Изучение теоретических основ экономической деятельности предприятий торговли в рыночной среде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389320" y="2468520"/>
              <a:ext cx="13680" cy="333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7360" y="2684520"/>
              <a:ext cx="18720" cy="24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18040" y="2712960"/>
              <a:ext cx="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5520" y="2598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811280" y="63025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" y="414360"/>
            <a:ext cx="8951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Лекция 1. Предприятие торговли, как субъект рыночной экономики. Введен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90180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960" y="1238400"/>
            <a:ext cx="8966520" cy="49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едприятие торговли как субъект и объект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ормативные, правовые акты, регламентирующие деятельность предприят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реда функционирования предприятия: внутренняя и внешня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кономический потенциал предприятия торговл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рупнейшие предприятия торговл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ализ деятельности торгового предприят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орот предприятия: оптового, розничного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сновные фонды предприятия; оборотные средства предприят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рудовые ресурсы предприят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сходы предприятия торговл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оходы предприят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быль предприятия; финансы предприятия торговл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ффективность деятельности предприят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курентоспособность предприятия торгов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1280" y="63025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2720" y="475560"/>
            <a:ext cx="75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УЧЕБНЫХ ЧАСОВ ПО ДИСЦИПЛИ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РАБОЧЕМУ УЧЕБНОМУ ПЛАНУ СПЕЦИАЛЬНОСТИ 080502.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ЭКОНОМИКА И УПРАВЛЕНИЕ НА ПРЕДПРИЯТИИ (В ТОРГОВЛЕ)" ОЧНОЙ ФОРМЫ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03560" y="29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3560" y="-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29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05120" y="29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5640" y="1173240"/>
          <a:ext cx="7561440" cy="4992480"/>
        </p:xfrm>
        <a:graphic>
          <a:graphicData uri="http://schemas.openxmlformats.org/drawingml/2006/table">
            <a:tbl>
              <a:tblPr/>
              <a:tblGrid>
                <a:gridCol w="2592360"/>
                <a:gridCol w="863640"/>
                <a:gridCol w="720720"/>
                <a:gridCol w="647640"/>
                <a:gridCol w="720720"/>
                <a:gridCol w="719280"/>
                <a:gridCol w="647640"/>
                <a:gridCol w="649440"/>
              </a:tblGrid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груз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о курсам, 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ЕМЕСТ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ОВ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О-АНАЛИ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ЧАС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7811280" y="63025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6840" y="428760"/>
            <a:ext cx="88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Лекция 1. Предприятие торговли в современных условиях хозяйств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9560" y="976320"/>
            <a:ext cx="680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прос 1. Предприятие торговли как основной субъект рын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системный объект эконом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0520" y="1779120"/>
            <a:ext cx="90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бъект торгов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юридическое лицо или индивидуальный предпринимател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имающийся торговлей зарегистрированный в установленном законом порядк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80" y="2669760"/>
            <a:ext cx="94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прият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убъект сферы товарного обращения, облада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йственной и юридической самостоятельностью и обеспечива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бслуживающий) процесс купли-продажи товаров исходя из собств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х интересов и долговременных ц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2240" y="4168440"/>
            <a:ext cx="87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 Р – 51303-99 определяет торговое предприятие как имуществен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, используемый организацией для купли-продажи товаров и оказ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торговли (земля, здания, сооружения, оборудование, инвентарь, товары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11280" y="63025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7360" y="4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9160" y="4730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7360" y="23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7360" y="47484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25100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95280" y="412920"/>
            <a:ext cx="8424360" cy="6111720"/>
            <a:chOff x="395280" y="412920"/>
            <a:chExt cx="8424360" cy="6111720"/>
          </a:xfrm>
        </p:grpSpPr>
        <p:sp>
          <p:nvSpPr>
            <p:cNvPr id="149" name=""/>
            <p:cNvSpPr/>
            <p:nvPr/>
          </p:nvSpPr>
          <p:spPr>
            <a:xfrm>
              <a:off x="4060080" y="828000"/>
              <a:ext cx="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0080" y="1102320"/>
              <a:ext cx="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0200" y="1603440"/>
              <a:ext cx="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40200" y="1877760"/>
              <a:ext cx="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25560" y="5882040"/>
              <a:ext cx="40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КУРЕНТНЫХ ПРЕИМУЩЕСТВ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54080" y="412920"/>
              <a:ext cx="6959880" cy="1149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ратегические цели предприятия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довлетворение               Обеспе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требностей общества             эффективной деятель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6440" y="915480"/>
              <a:ext cx="68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7840" y="915480"/>
              <a:ext cx="0" cy="64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03400" y="1562040"/>
              <a:ext cx="788040" cy="431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66600" y="1562040"/>
              <a:ext cx="788040" cy="431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26600" y="2066040"/>
              <a:ext cx="4590360" cy="520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казатели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еспечивающие достижение целе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5000" y="2641680"/>
              <a:ext cx="0" cy="21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9200" y="2641680"/>
              <a:ext cx="0" cy="21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59400" y="2857320"/>
              <a:ext cx="1245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108840" y="2857320"/>
              <a:ext cx="1245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9760" y="2857320"/>
              <a:ext cx="0" cy="21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54800" y="2857320"/>
              <a:ext cx="0" cy="21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7240" y="2713320"/>
              <a:ext cx="2856960" cy="1510560"/>
            </a:xfrm>
            <a:prstGeom prst="rightArrow">
              <a:avLst>
                <a:gd name="adj1" fmla="val 50000"/>
                <a:gd name="adj2" fmla="val 4728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тображающие степень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довлетворенности потребителей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дукцией предприяти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8920" y="2713320"/>
              <a:ext cx="2856600" cy="1510560"/>
            </a:xfrm>
            <a:prstGeom prst="leftArrow">
              <a:avLst>
                <a:gd name="adj1" fmla="val 50000"/>
                <a:gd name="adj2" fmla="val 4727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тражающие уровень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ффективности предприяти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600" y="4150800"/>
              <a:ext cx="2690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оля предприятия на рынк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зменение доли в динамик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ъем производств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мидж брэнд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" y="3575520"/>
              <a:ext cx="0" cy="13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5280" y="35755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280" y="494208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280" y="472644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45108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5280" y="429516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25520" y="3575520"/>
              <a:ext cx="29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19640" y="3575520"/>
              <a:ext cx="0" cy="13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5080" y="4150800"/>
              <a:ext cx="337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ъем прибыл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орма прибыл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изводство добавленной стоим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изводительность труд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9480" y="4098960"/>
              <a:ext cx="261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12680" y="4150800"/>
              <a:ext cx="30852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54600" y="494208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53160" y="472644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54600" y="451080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3160" y="4295160"/>
              <a:ext cx="36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79320" y="2732040"/>
              <a:ext cx="358920" cy="23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60920" y="5006880"/>
              <a:ext cx="32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 О  М  П  Р  О  М  И  С  С  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52440" y="50864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1080" y="50864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86880" y="5302080"/>
              <a:ext cx="146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840720" y="5302080"/>
              <a:ext cx="146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9960" y="5302080"/>
              <a:ext cx="381024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569840" y="5302080"/>
              <a:ext cx="373572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667640" y="638172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1. Р-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400" y="6467400"/>
            <a:ext cx="551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. Стратегические цели предприятия в условиях рыноч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50920" y="620640"/>
            <a:ext cx="8569080" cy="5256360"/>
            <a:chOff x="250920" y="620640"/>
            <a:chExt cx="8569080" cy="5256360"/>
          </a:xfrm>
        </p:grpSpPr>
        <p:sp>
          <p:nvSpPr>
            <p:cNvPr id="195" name=""/>
            <p:cNvSpPr/>
            <p:nvPr/>
          </p:nvSpPr>
          <p:spPr>
            <a:xfrm>
              <a:off x="250920" y="620640"/>
              <a:ext cx="823680" cy="5256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33760" y="620640"/>
              <a:ext cx="230688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Хозяйствующий субъек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33760" y="1715760"/>
              <a:ext cx="230688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рганизационное един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33760" y="2810520"/>
              <a:ext cx="230688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особленное имуще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33760" y="3905640"/>
              <a:ext cx="230688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мущественная ответственнос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33760" y="5000760"/>
              <a:ext cx="230688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бственное наименовани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4600" y="5223600"/>
              <a:ext cx="659160" cy="492480"/>
            </a:xfrm>
            <a:prstGeom prst="rightArrow">
              <a:avLst>
                <a:gd name="adj1" fmla="val 50000"/>
                <a:gd name="adj2" fmla="val 334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74600" y="3029760"/>
              <a:ext cx="659160" cy="492480"/>
            </a:xfrm>
            <a:prstGeom prst="rightArrow">
              <a:avLst>
                <a:gd name="adj1" fmla="val 50000"/>
                <a:gd name="adj2" fmla="val 334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74600" y="1934280"/>
              <a:ext cx="659160" cy="492480"/>
            </a:xfrm>
            <a:prstGeom prst="rightArrow">
              <a:avLst>
                <a:gd name="adj1" fmla="val 50000"/>
                <a:gd name="adj2" fmla="val 334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4600" y="839520"/>
              <a:ext cx="659160" cy="492480"/>
            </a:xfrm>
            <a:prstGeom prst="rightArrow">
              <a:avLst>
                <a:gd name="adj1" fmla="val 50000"/>
                <a:gd name="adj2" fmla="val 334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4600" y="4124880"/>
              <a:ext cx="659160" cy="492480"/>
            </a:xfrm>
            <a:prstGeom prst="rightArrow">
              <a:avLst>
                <a:gd name="adj1" fmla="val 50000"/>
                <a:gd name="adj2" fmla="val 334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5880" y="620640"/>
              <a:ext cx="461412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сполагает и приводит ресурсы в движение для производства продукции (работ, услуг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05880" y="2810520"/>
              <a:ext cx="461412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амостоятельно распоряжается имуществом и использует его по своему усмотрени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5880" y="3905640"/>
              <a:ext cx="461412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 свои действия и обязательства отвечает своим имущество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05880" y="5000760"/>
              <a:ext cx="461412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 своего имени выполняет все свои функции и выступает юридическим лицо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05880" y="1715760"/>
              <a:ext cx="4614120" cy="87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рганизационное единство оформлено и отображено в учредительных документа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41000" y="1058400"/>
              <a:ext cx="1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41000" y="2153520"/>
              <a:ext cx="1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41000" y="3248640"/>
              <a:ext cx="1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41000" y="4343760"/>
              <a:ext cx="1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41000" y="5438880"/>
              <a:ext cx="1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70640" y="6044040"/>
            <a:ext cx="550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 2. Основные признаки предприятия (по А. М. Магомедову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51640" y="638172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1. Р-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71280" y="476280"/>
            <a:ext cx="8964720" cy="5400720"/>
            <a:chOff x="71280" y="476280"/>
            <a:chExt cx="8964720" cy="5400720"/>
          </a:xfrm>
        </p:grpSpPr>
        <p:sp>
          <p:nvSpPr>
            <p:cNvPr id="219" name=""/>
            <p:cNvSpPr/>
            <p:nvPr/>
          </p:nvSpPr>
          <p:spPr>
            <a:xfrm>
              <a:off x="5018040" y="1468440"/>
              <a:ext cx="32972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личие предельных ресурсных возможностей, комплекса связей; уникальность и неопределенность поведени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000" y="1468440"/>
              <a:ext cx="35038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епостоянство отдельных параметров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еятельности и вероятностный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арактер поведени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05480" y="476280"/>
              <a:ext cx="0" cy="13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31920" y="4443480"/>
              <a:ext cx="484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54440" y="4113360"/>
              <a:ext cx="3297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пособность к самоорганизации, через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68520" y="1798560"/>
              <a:ext cx="2370240" cy="2314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орговое предприятие как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2000" y="4554360"/>
              <a:ext cx="206244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изменение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структуры при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сохранении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целостности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формировании вариантов стратегии и тактик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1280" y="3452760"/>
              <a:ext cx="3400560" cy="23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54440" y="4554360"/>
              <a:ext cx="1647720" cy="12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тивостояние разрушительным тенденциям и создание новых,  обеспечивающих развит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42920" y="4443480"/>
              <a:ext cx="1116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02160" y="4554360"/>
              <a:ext cx="1546200" cy="9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испособление к изменяющимся условиям рыночной сред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4554360"/>
              <a:ext cx="1544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формирование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целей внутри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едприяти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как систем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5800" y="3452760"/>
              <a:ext cx="3400200" cy="23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" y="2790720"/>
              <a:ext cx="8964720" cy="3086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2000" y="4437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00720" y="444348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02160" y="47628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3240" y="5546880"/>
              <a:ext cx="7886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        Р        Е        Д       П        Р        И        Н       И       М      А      Т        Е      Л      Ь      С      Т      В      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7520" y="5546880"/>
              <a:ext cx="793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451640" y="638172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. 1. Р-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2800" y="6044040"/>
            <a:ext cx="46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йства торгового предприятия как систе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gtei</cp:lastModifiedBy>
  <dcterms:modified xsi:type="dcterms:W3CDTF">2006-09-12T02:14:33Z</dcterms:modified>
  <cp:revision>45</cp:revision>
  <dc:subject/>
  <dc:title>PowerPoint Presentation</dc:title>
</cp:coreProperties>
</file>